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42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6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BB99-3F5C-42F6-8F74-050BED2895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78515-5C88-43C3-9497-22D5AE314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61CB-F4EA-4A91-A49C-194479A9A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2720" cy="3768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6ABA-38B3-4303-A0E4-C6F958ED3A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9F847-571A-4CEA-B3A7-08C7D1C23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D63E0-0860-4A78-AE48-C792C8B908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233F1-4534-4AF6-9112-94472A99B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4FBC5-D0DA-4AFD-BD9E-46D98A554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8DC9D-43CE-4A78-BF78-D0750BCA0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6A279-2482-4F7E-B6BC-52DAAABDCA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best scale in each circum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9651C-63C3-4CDD-84BA-88C5ED9D17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ymour saying when children would program compu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) Limit by Price and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) Real point: why we should care: What one can learn that otherwsie is too difficult a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) Learning cultures and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A0802-69F3-4726-9A00-C3BF29915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0CB28-BBB0-49FF-84B4-498AA2D74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that builds on and values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riences and knowledge of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A9B68-D389-41C3-8D59-1A7B48D649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763560"/>
            <a:ext cx="518184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7D84B-744E-48DA-B782-C09968F1B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F9730-270A-4D28-94A1-C5C641030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2720" cy="3768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80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80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301680"/>
            <a:ext cx="88027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457200" y="1746360"/>
            <a:ext cx="9144000" cy="1440"/>
          </a:xfrm>
          <a:prstGeom prst="line">
            <a:avLst/>
          </a:prstGeom>
          <a:ln w="292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2" marL="1287360" indent="-2127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3" marL="1719360" indent="-20808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4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5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6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781200" y="1517760"/>
            <a:ext cx="190152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5649840" y="7132680"/>
            <a:ext cx="405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777777"/>
                </a:solidFill>
                <a:latin typeface="Arial"/>
              </a:rPr>
              <a:t>Cambridge, 17 September, 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ia@laptop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2047680"/>
            <a:ext cx="8818560" cy="51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XO and Learning</a:t>
            </a:r>
            <a:endParaRPr b="0" lang="en-US" sz="44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dia Urrea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PC 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laudia@laptop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http://www.laptop.org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Learning with others around the world (Scratch smokers program) 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9" name="Picture 7" descr="scratch"/>
          <p:cNvPicPr/>
          <p:nvPr/>
        </p:nvPicPr>
        <p:blipFill>
          <a:blip r:embed="rId1"/>
          <a:stretch/>
        </p:blipFill>
        <p:spPr>
          <a:xfrm>
            <a:off x="1992240" y="2255760"/>
            <a:ext cx="7027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Mobility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Bringing learning everywhe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in not limited to the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hole world becomes a student's laborator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Bringing connectivity everywhe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amily and community becom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with other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59280" y="202716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Learning everywher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SC02847"/>
          <p:cNvPicPr/>
          <p:nvPr/>
        </p:nvPicPr>
        <p:blipFill>
          <a:blip r:embed="rId1"/>
          <a:stretch/>
        </p:blipFill>
        <p:spPr>
          <a:xfrm>
            <a:off x="2982960" y="2103480"/>
            <a:ext cx="6168960" cy="4627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Family partici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Free and Open software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iscover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Appropriation (Imagine, Reshape, reinvent) *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velopers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Viability and sustaina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cal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Getting beyond the computer lab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nclus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Transforming learning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mpact on societal level, not just classroom or schoo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Full development of every child’s potential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Picture 11" descr="haiti 015"/>
          <p:cNvPicPr/>
          <p:nvPr/>
        </p:nvPicPr>
        <p:blipFill>
          <a:blip r:embed="rId1"/>
          <a:stretch/>
        </p:blipFill>
        <p:spPr>
          <a:xfrm>
            <a:off x="773280" y="210348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haiti 019"/>
          <p:cNvPicPr/>
          <p:nvPr/>
        </p:nvPicPr>
        <p:blipFill>
          <a:blip r:embed="rId2"/>
          <a:stretch/>
        </p:blipFill>
        <p:spPr>
          <a:xfrm>
            <a:off x="5268960" y="3627360"/>
            <a:ext cx="433224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OLPC workshop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1:1 immersive acces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Ubiquitous 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Free and open softwa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Scale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68360" y="2179800"/>
            <a:ext cx="50292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268960" y="339876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91000" y="301680"/>
            <a:ext cx="4343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eymour Pap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OLPC - Powerful idea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1:1 immersive access (ownership)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Ubiquitous 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Free and open softwa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Scale (saturation)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1:1 Immersion acces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Expression &amp; representat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Modelling &amp; simulatio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omputational literac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ulturally relevant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Inclusion to home and commun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2280"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El Silencio – Costa Rica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925560" y="233208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SCI0019"/>
          <p:cNvPicPr/>
          <p:nvPr/>
        </p:nvPicPr>
        <p:blipFill>
          <a:blip r:embed="rId2"/>
          <a:stretch/>
        </p:blipFill>
        <p:spPr>
          <a:xfrm>
            <a:off x="5268960" y="1951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5878440" y="530388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117 inhabi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45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l"/>
              </a:rPr>
              <a:t>Milk farms and agri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Map of the community (scale)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6" name="Picture 3" descr="mapa2"/>
          <p:cNvPicPr/>
          <p:nvPr/>
        </p:nvPicPr>
        <p:blipFill>
          <a:blip r:embed="rId1"/>
          <a:stretch/>
        </p:blipFill>
        <p:spPr>
          <a:xfrm>
            <a:off x="849240" y="3017880"/>
            <a:ext cx="3745080" cy="29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aquetaComunidad2-2"/>
          <p:cNvPicPr/>
          <p:nvPr/>
        </p:nvPicPr>
        <p:blipFill>
          <a:blip r:embed="rId2"/>
          <a:stretch/>
        </p:blipFill>
        <p:spPr>
          <a:xfrm>
            <a:off x="4964040" y="2027160"/>
            <a:ext cx="4506840" cy="3130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735440" y="5151600"/>
            <a:ext cx="5038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 count-r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set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ke “rev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orever  [ if (sensor1 = 0) [make “rev :rev + 1  record :rev beep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0480" y="0"/>
            <a:ext cx="89964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onten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19040" y="1967040"/>
            <a:ext cx="1582920" cy="463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4451400" y="755640"/>
            <a:ext cx="4722840" cy="2903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424160" y="2731680"/>
            <a:ext cx="8264520" cy="4331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700"/>
            </a:b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Right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Left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A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Left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gt; -A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ngle &l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speed &gt; 0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moveRight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]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am and Alex’s discrete meth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Ubiquitous connectivity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finer gran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i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l"/>
              </a:rPr>
              <a:t>Deeply social learning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llective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s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92000"/>
              </a:lnSpc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discussion-calf"/>
          <p:cNvPicPr/>
          <p:nvPr/>
        </p:nvPicPr>
        <p:blipFill>
          <a:blip r:embed="rId1"/>
          <a:stretch/>
        </p:blipFill>
        <p:spPr>
          <a:xfrm>
            <a:off x="468360" y="4618080"/>
            <a:ext cx="6400800" cy="24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video-calf"/>
          <p:cNvPicPr/>
          <p:nvPr/>
        </p:nvPicPr>
        <p:blipFill>
          <a:blip r:embed="rId2"/>
          <a:stretch/>
        </p:blipFill>
        <p:spPr>
          <a:xfrm>
            <a:off x="3745080" y="1951200"/>
            <a:ext cx="5638680" cy="4402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Learning with others around the world </a:t>
            </a:r>
            <a:endParaRPr b="1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18T17:59:25Z</dcterms:modified>
  <cp:revision>19</cp:revision>
  <dc:subject/>
  <dc:title>OLPC</dc:title>
</cp:coreProperties>
</file>